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794-6F77-41DD-8CFA-4323C41F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A11-6417-4690-B465-A221EDA2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04A99-DB8D-4CB2-BF96-301FA1F8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1136D-0E5E-48A0-B16D-35FC27BB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381E8-859F-433A-BBFA-3678108E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E2CF0-3876-470A-93D3-3C07C772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8FFB-5F08-421B-AA80-40C9A11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390A-BCFC-4F85-BB49-4251BE9D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9ECE7-F893-422B-A637-FBE04C97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26AE9-2A2F-4C93-A718-96A568C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04715-1497-4B7B-A8AB-1EA3AD0C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C79DE-281A-42E8-8A09-FB729BF0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414-BC31-437B-BB2B-B13B783D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9CDA9-B1FE-4669-9F5A-42FD6C08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726FB-7258-4CB3-973D-ADDD1AE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B4EC9-5760-465B-8F7A-80502168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0A38B-E9CF-4328-A31B-64767DB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D7D7F-E211-4605-9CBF-37D7147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09B3-D6CD-4879-B641-5B55C96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C9DD1-0ECF-48BF-B86E-CBADE26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69948-3241-4AC5-B063-4D23526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045C1-B716-433C-AFEA-CE63171F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03DE3-AE5A-4B7B-B9FF-9AD49A51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40C-C37A-402B-A20E-1BD91377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A7A26-FDAE-4693-BF8A-CA9E7519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E29EF-F512-43E4-B14F-BD5A5897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88D0D-A52A-4D4C-9F0B-AB4B95E0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73684-3277-44E4-940F-1B754A91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8F1F1-9C8A-4065-B41C-1DD1E0A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E0E8B-8098-4C16-9897-3A58597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5B01D-7B2F-4C27-BAB7-FD494794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5AAA9-B3FE-457B-9608-CDCE438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DBD2-C32E-4BC9-BE81-E4BF0E6B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354A6-9FAB-4ECA-A3A3-D42A76A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4BE7-395B-4975-9C7E-16360F55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FB26D-817A-4038-8AB4-C685D17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4FB4C-1BC0-4526-8867-38641235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3F9B-062D-41CA-96F7-5417647D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62B2E-B5FD-4AE4-91EE-80869F6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E840E-83B9-4716-8270-EA7627B2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C0B07-9619-44D4-B5B9-5CBBD21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23EE4-EB92-42BD-9B80-5BC474D6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EAF8E-498F-428C-A01B-18EFA4E8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1F4ED-85E4-4951-AE8E-B1BDE605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146F4-FC25-423B-A5E1-2D1F5C0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1CFC-1455-46A9-98B9-AACAFBFC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53B0A-C7DA-4C56-838E-0C42BCF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F7B8-6B3F-498A-B8B7-45955B8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F5A67-94EA-425F-B2F5-61D88EB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03616-CF72-435E-B442-BDC6A2CB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A4E7F-2F85-404F-861F-D9B56E82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76E9-3E14-49D9-9D3D-00D01F69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9B0-24DF-4A8D-ACC7-E6BF8C8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86D2-316E-407D-8889-E3A64130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19B8-673A-43C7-A6E6-1443DDE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064-405A-4A0D-95C8-7B589D5F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E8E-1A51-4DFD-B771-FC691468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67CC-3B67-4E7C-8951-658906C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ED5-586B-464B-BD8B-6F5D9A7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3A6-8A89-47CF-A4F1-A00AFCA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D54-E20D-436F-9055-5F7B1F71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2445-EE82-4014-80D9-DD809C7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5442-9DD1-4738-8AB2-0713BE5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4D31-1624-4739-A251-55040AC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6A95-55EC-42E4-9E0F-F18830D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327A-280B-4B0A-AE89-B8C1BB45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99FC-8D11-4E1A-B4FB-83C00996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58A-7742-4507-B381-28CE861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13DD-0C27-4A0F-8CA0-1F39B59A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8EDD-FBB0-4E95-A55E-ACAFB6F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162A-78F1-463D-87DF-E035004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0047-F4B7-440B-A580-AE169A6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1287-8987-4DF3-85BF-D327325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6D69-AAB0-40AD-B96B-F8DE76E0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B63A-CE22-4F09-938C-3705E588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98EA-CA32-4054-9BCA-8F0F066C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5A70-1FD6-4F50-9819-427F3808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DFE9-E80C-4051-8E4A-644314E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5F3-E7D9-4C38-8087-D34D14A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87B3-966B-47C7-AD9C-01DECB3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BE61-6B90-4907-A762-B45958B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B528-EA1F-4B83-97CA-373B3CCD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CAB3-2324-4505-A35E-C8993D0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CC45-9907-4E1D-B417-F15FB21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F56E-1203-4A30-BCFC-18D34CB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209B-1CDA-4CBC-AB87-F335A64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C40D-CD01-41F9-8EA8-C992EF9C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4E5D-9263-4EF0-97B8-2A7E4041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5B58A-1AAC-4B75-94EC-E5ADCC9A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097-CABD-4E14-902C-47C40D11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2EE3-BF4E-471E-A2E9-578BD89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2A6B9-3B1A-4AF0-A1C7-F61B104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DC88-CFB5-4157-90F6-6993848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A2C8-BEDD-494B-BEFD-D3EAED9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DE2C-17DA-4A74-AAAF-AEC822B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6983-83A5-4DC4-BC57-9BA9DE7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D556-339C-45E6-8287-EFED33F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A60A-A9D2-4B6D-ABE7-13A7E673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EC773-81A4-43A5-A458-F05591D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0955-76DE-4C41-A481-94F2F3BA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3EB-7F6A-434F-9394-ADFC775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E4FC-E639-4473-A409-22028C1A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C07C-A616-42F6-9048-2F3AC659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A320-EAB3-4FA0-A18B-00E0034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69885-81D0-4337-B969-52F7A878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4723-12AA-4E9A-983E-0B156FC0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AAC0A-AB7E-4971-B8D0-DC18646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87EE8-3098-43A3-8E22-22A1AAB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1B7D0-34B4-4910-862A-1E55688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D6C9-524F-49CB-B728-3E919E3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B1A4-39CC-43C8-99D0-5490FFF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6DD-4DCC-40E2-8417-2562281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FBB1-9B82-45EC-AFE8-A0F751E5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50EF-C2E5-4DE7-9BD9-0AC6D162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2B87-D7C4-46D1-8B8C-942E870D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158B-21A5-471A-9663-A7E4315B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E1264-E1C9-4E75-BD30-3F951FE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60D4-B81D-4470-A88E-79F99BE9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E3045-DB53-40BF-B858-1B4D5294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64C98-571A-4BCF-85EF-500EEAC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2C37-E2D7-442C-9F15-0D26F58C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B47F2-261A-42D3-9E2D-BFB0A15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75C-C500-4AE1-806C-2782B1D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C2755-A0EC-4D51-9DE3-06A77BF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CED5-809E-412E-A9FE-E56A217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1160-2137-4CF6-8B33-8BEB1218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B121-66E0-4302-AA53-473D927D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97C63-22A4-4F73-BA3E-12C293AA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7F55-73E8-4004-8145-B7FE6C13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2D15D-794A-486E-8FA3-B0D2D729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D9178-BE50-4FC0-B0B2-5316799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2C92-28F2-490E-A712-641EFA22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6A11-82CA-494A-A9E1-E0AE803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573-641E-469F-B34D-974878B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36DA-794B-461D-A369-EA633B3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CDA4-5853-40A9-8C68-BB36E6A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C1EAA-7097-44AA-8F52-EF871DC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0CDE-AB68-48B2-9E6A-81E7C84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370B-7C8C-4495-A7B5-C7573FA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F0F9-445D-4A9A-A697-BE91E736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D7A0-64EF-4D2B-A979-78CDE64E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41B76-5610-4D5F-B66B-9656F703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BACD3-CFB5-481F-A350-270605BE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13840-067F-47C2-959D-97B3CF6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7C0-0D49-4488-9A69-27A13B95F9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49F-53E8-40B4-BE81-52A66A6A44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01BA-B595-4811-9E8D-6DE587CBE7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9C2-92DF-4D9E-A56A-AE6147DAD3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F04-80AF-4E95-BD94-F6FDB1EEAD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9C4-BF17-4116-A403-64427ADAFB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D5C9-922A-4D0D-B767-C8C78B4D63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030F-BE58-4E40-A564-05FC67C3A0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89E5-70B5-4647-B07F-209BAD59EF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BFA-1E31-4193-A7AA-4DF13F2B2D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B7D-7525-4D4F-A64A-95F9759713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BAC8-F558-412A-8D96-6EC0C396DB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0 Pán Ježiš je pre mň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jdrahš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rád ma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o mňa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riateľ mô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pre mňa najdrahš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lom svete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jeho meno vzácne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ilo srdcu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d hlavou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erny m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pieram k nebu viery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mútok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í ma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tíši bole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úcit so mnou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pokoj svoj mi dar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iedu moju z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kúsil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ždycky v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 pomoc zas a z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idem tm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redo mn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ria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môj záchran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ním chcem verne í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emu z lásky, 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život zasvä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môj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dobre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za všetko ďak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21:31:06Z</dcterms:created>
  <dc:creator>MD</dc:creator>
  <dc:description/>
  <dc:language>en-US</dc:language>
  <cp:lastModifiedBy>DUMAS Ing. Dušan Bielik</cp:lastModifiedBy>
  <dcterms:modified xsi:type="dcterms:W3CDTF">2024-01-04T10:55:42Z</dcterms:modified>
  <cp:revision>4</cp:revision>
  <dc:subject/>
  <dc:title>Bez nadpisu</dc:title>
</cp:coreProperties>
</file>